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25E3-BC85-42A4-B398-60BAD35FC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281F-448F-4CD6-B930-4CB3F341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D846-879E-40B4-8771-1971772BF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1870-64A1-46F4-BC16-2A5B4DE1B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320A-1F47-4672-8795-59720139C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CA84-C2C5-4DB7-B232-83C0CADE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CC0D-2585-4215-AC2A-4E8582A5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9827-04D1-4429-B088-7FF9F019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0E8A-D7F8-49AE-ACAC-6D8C82FB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AC3D-9C6B-4B94-9837-C901DE9B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F9A3-EF87-4F32-B4CB-054FC052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7663-625B-4B78-8D9F-0742A7C4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4AE7-6169-4D3A-93A6-2785C8E4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5D14-9909-4654-A80C-5EBE1762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71AB-4440-46C2-B9E7-ED6FBA29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76ED-978B-436E-90F5-379B77D51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7535-E971-4DA9-BBDF-2B7FA506C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90E97-6DB3-4D92-A521-0FB466873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A3920-B2E9-405F-AC1E-2E121B6B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A61E4-E900-443C-BF3F-63B0B4E4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234B6-3220-44D8-8EEA-A3B5B295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F860D-ED41-4707-B1FC-2B3B418F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4411-2473-4DED-8477-367A3D29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BEC2C-6E3F-4796-8F65-23D03F52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B53DF-E3BD-4B92-9B68-0C5EE80A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98AE5-1E6F-4070-8674-C39B3B4A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1CD7A-7FB1-4E98-B2CD-5A4423AC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7BB14-4FBF-4BEE-AD80-6E867E7E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F1387-7B75-42C4-867B-0FC77E1BE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C02D0-CC47-4612-929D-67A94AAE7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7766B-2769-4291-9047-F7FE4D1F6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DA305-8957-4129-9CB1-E191BC62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62C73-DF52-4358-94A0-D79A422B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84DF-FB48-4A66-A8C9-2EC09788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9E7D0-36E1-4DEB-A8C2-43FEDB9E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2D4A2-4D61-4E8D-AFAA-57AD175F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15DD2-B9DE-4347-A9F5-E847A323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3FBA1-6506-48B3-B23D-27CD74EB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3B99A-162D-4678-BF9E-1C21873F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AB539-F4E6-48A9-8FEA-353A85DA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69971-09D6-4E2A-8F87-0F79967F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9E121-F937-48F6-8D59-212821A33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55B19-3A7D-494D-BCA8-7109AD3A0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12854-6355-4079-B786-BCBEAABDC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A29C-FA5D-4B60-A9C3-62242506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27C7C-B951-448D-859E-AC59984A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F9243-5686-4ADA-A304-BEA4D94C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09F48-ED11-4CB9-8870-FB1AFAAC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B9E6A-E2A9-4992-BAF1-0AF8F4C0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528B8-48A6-4B30-9EC4-87C99336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619EA-C06C-4649-9372-8E4F1B66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8CC5A-AEFA-4459-B65A-F47C5156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F28EF-A200-44E6-BAD2-B826419F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A8ECD-14F1-48D0-84F3-C1EE3D5B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A9C64-E583-4090-A410-3D3894407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0C83-5617-4B22-9104-46372FDC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25CD1-7183-433B-813E-1B61EC963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1BB40-7F9E-4B40-B619-C223DA231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DA546-FD72-46F9-B31A-CE53A4C4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F41D8-5915-44D7-A1BB-A389102C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59E55-7515-4A37-9506-D4AE8672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FBC69-C155-4FB2-998F-BB4289C8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FDA41-ED13-4694-969E-02DCD634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8FF2E-0A1D-4F03-912F-E208DB8F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367B8-4622-424C-BAF0-29E59E45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24297-0805-460A-8C6D-D7A22B3D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8688-EA39-4364-86D2-B3287DFA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EA1CA-559E-4A35-8F1D-2FCF22CE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1DEC2-90AA-4A17-8FF6-59EA583F2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457E1-5153-4BFB-BDE6-76952FF59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087E2-E737-41BE-A659-8D4462689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2D399-604E-4BD8-90B6-A7DA6494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FA40D-B830-46D9-ACB5-515E2CF5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84E82-B20B-4C9A-8A75-BBDC1972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A8801-9E3F-4563-8B21-6B59F5A8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7046A-27AD-4271-A15F-FC57EA6B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B513E-24B1-429F-A2BE-4F5FD0D4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8BC4-FC2E-40F7-B4E7-3CD49442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19F39-3309-4310-946D-7A91BD6F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D95FA-1D12-4099-8105-160487A3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7E1C1-F619-44CF-8E0A-CD64F948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C72BD-F060-46CD-98C9-4ED616D54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A44CC-EB18-4763-9D88-33D3937BC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4BB0-36A9-459F-8BBD-1F3D9969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9e5d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9b2d1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9b2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a28e6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9e5d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FBCF-C9F6-4D8B-892C-12486E1760C4}" type="slidenum">
              <a:rPr b="0" lang="en-US" sz="1200" spc="-1" strike="noStrike">
                <a:solidFill>
                  <a:srgbClr val="e9e5d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9e5d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9b2d1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9b2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a28e6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9e5d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A4B4-23D1-49D1-8758-B33F21C2D77A}" type="slidenum">
              <a:rPr b="0" lang="en-US" sz="1200" spc="-1" strike="noStrike">
                <a:solidFill>
                  <a:srgbClr val="e9e5d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9b2d1f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9b2d1f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79717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79717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79717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79717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79717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79717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79717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79717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79717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79717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79717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79717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79717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79717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9e5d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9b2d1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9b2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a28e6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9e5d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36AC-E839-40C2-96DC-9FA68A68FA7D}" type="slidenum">
              <a:rPr b="0" lang="en-US" sz="1200" spc="-1" strike="noStrike">
                <a:solidFill>
                  <a:srgbClr val="e9e5d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9e5d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9b2d1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9b2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a28e6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9e5d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0907-80A2-42A5-A1F7-FBF6E3086A35}" type="slidenum">
              <a:rPr b="0" lang="en-US" sz="1200" spc="-1" strike="noStrike">
                <a:solidFill>
                  <a:srgbClr val="e9e5d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79717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9e5d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9b2d1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9b2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a28e6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9e5d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F3FD-BF04-43CF-8521-A51258F6021E}" type="slidenum">
              <a:rPr b="0" lang="en-US" sz="1200" spc="-1" strike="noStrike">
                <a:solidFill>
                  <a:srgbClr val="e9e5d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9e5d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9b2d1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9b2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a28e6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9e5d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F933-45AC-41E4-914C-7CFDBC950E93}" type="slidenum">
              <a:rPr b="0" lang="en-US" sz="1200" spc="-1" strike="noStrike">
                <a:solidFill>
                  <a:srgbClr val="e9e5d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9e5d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9b2d1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9b2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a28e6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9e5d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1869-BD88-469B-80CD-791783D033FE}" type="slidenum">
              <a:rPr b="0" lang="en-US" sz="1200" spc="-1" strike="noStrike">
                <a:solidFill>
                  <a:srgbClr val="e9e5d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186760" cy="251748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 short introduction to ideas and uses for Science and Social Studi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Paul Irwi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2012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040" y="51264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Consolas"/>
              </a:rPr>
              <a:t>Using Strip Design</a:t>
            </a: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2286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9e5d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pen Strip Desig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9e5d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on “Create new”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9e5d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hoose your layou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9e5d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itle your book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9e5d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ap the bottom left “+”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o choose Layou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9e5d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9e5d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2" name="Picture 9" descr="stripdesign.gif"/>
          <p:cNvPicPr/>
          <p:nvPr/>
        </p:nvPicPr>
        <p:blipFill>
          <a:blip r:embed="rId1"/>
          <a:stretch/>
        </p:blipFill>
        <p:spPr>
          <a:xfrm>
            <a:off x="1295280" y="380880"/>
            <a:ext cx="1368720" cy="1676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5715000" y="1600200"/>
            <a:ext cx="3068640" cy="3657600"/>
          </a:xfrm>
          <a:prstGeom prst="rect">
            <a:avLst/>
          </a:prstGeom>
          <a:ln w="0">
            <a:noFill/>
          </a:ln>
        </p:spPr>
      </p:pic>
      <p:pic>
        <p:nvPicPr>
          <p:cNvPr id="374" name="Straight Arrow Connector 13" descr=""/>
          <p:cNvPicPr/>
          <p:nvPr/>
        </p:nvPicPr>
        <p:blipFill>
          <a:blip r:embed="rId3"/>
          <a:stretch/>
        </p:blipFill>
        <p:spPr>
          <a:xfrm>
            <a:off x="4479840" y="1657440"/>
            <a:ext cx="307980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1066680" y="2895480"/>
            <a:ext cx="2094120" cy="27432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040" y="51264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Consolas"/>
              </a:rPr>
              <a:t>Using Strip Design</a:t>
            </a: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pic>
        <p:nvPicPr>
          <p:cNvPr id="377" name="Picture 9" descr="stripdesign.gif"/>
          <p:cNvPicPr/>
          <p:nvPr/>
        </p:nvPicPr>
        <p:blipFill>
          <a:blip r:embed="rId2"/>
          <a:stretch/>
        </p:blipFill>
        <p:spPr>
          <a:xfrm>
            <a:off x="1295280" y="380880"/>
            <a:ext cx="1368720" cy="16765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"/>
          <p:cNvPicPr/>
          <p:nvPr/>
        </p:nvPicPr>
        <p:blipFill>
          <a:blip r:embed="rId3"/>
          <a:stretch/>
        </p:blipFill>
        <p:spPr>
          <a:xfrm>
            <a:off x="6324480" y="1676520"/>
            <a:ext cx="2186280" cy="45720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914400" y="2286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9e5d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lect templat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9e5d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hoose image sour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9e5d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9e5d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0" name="Straight Arrow Connector 13" descr=""/>
          <p:cNvPicPr/>
          <p:nvPr/>
        </p:nvPicPr>
        <p:blipFill>
          <a:blip r:embed="rId4"/>
          <a:stretch/>
        </p:blipFill>
        <p:spPr>
          <a:xfrm>
            <a:off x="3956040" y="1579680"/>
            <a:ext cx="3835440" cy="1103040"/>
          </a:xfrm>
          <a:prstGeom prst="rect">
            <a:avLst/>
          </a:prstGeom>
          <a:ln w="0">
            <a:noFill/>
          </a:ln>
        </p:spPr>
      </p:pic>
      <p:pic>
        <p:nvPicPr>
          <p:cNvPr id="381" name="Straight Arrow Connector 14" descr=""/>
          <p:cNvPicPr/>
          <p:nvPr/>
        </p:nvPicPr>
        <p:blipFill>
          <a:blip r:embed="rId5"/>
          <a:stretch/>
        </p:blipFill>
        <p:spPr>
          <a:xfrm>
            <a:off x="2951280" y="3255840"/>
            <a:ext cx="170640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040" y="51264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Consolas"/>
              </a:rPr>
              <a:t>Using Strip Design</a:t>
            </a: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pic>
        <p:nvPicPr>
          <p:cNvPr id="383" name="Picture 9" descr="stripdesign.gif"/>
          <p:cNvPicPr/>
          <p:nvPr/>
        </p:nvPicPr>
        <p:blipFill>
          <a:blip r:embed="rId1"/>
          <a:stretch/>
        </p:blipFill>
        <p:spPr>
          <a:xfrm>
            <a:off x="1295280" y="380880"/>
            <a:ext cx="1368720" cy="16765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"/>
          <p:cNvPicPr/>
          <p:nvPr/>
        </p:nvPicPr>
        <p:blipFill>
          <a:blip r:embed="rId2"/>
          <a:stretch/>
        </p:blipFill>
        <p:spPr>
          <a:xfrm>
            <a:off x="5105520" y="1981080"/>
            <a:ext cx="3141720" cy="4114800"/>
          </a:xfrm>
          <a:prstGeom prst="rect">
            <a:avLst/>
          </a:prstGeom>
          <a:ln w="0">
            <a:noFill/>
          </a:ln>
        </p:spPr>
      </p:pic>
      <p:sp>
        <p:nvSpPr>
          <p:cNvPr id="385" name="TextBox 7"/>
          <p:cNvSpPr/>
          <p:nvPr/>
        </p:nvSpPr>
        <p:spPr>
          <a:xfrm>
            <a:off x="856800" y="2819520"/>
            <a:ext cx="4144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lick on “Drawing”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Draw or type your title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text, or pictur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dd a map to you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layou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6" name="Straight Arrow Connector 13" descr=""/>
          <p:cNvPicPr/>
          <p:nvPr/>
        </p:nvPicPr>
        <p:blipFill>
          <a:blip r:embed="rId3"/>
          <a:stretch/>
        </p:blipFill>
        <p:spPr>
          <a:xfrm>
            <a:off x="3498840" y="3103560"/>
            <a:ext cx="4370400" cy="1103400"/>
          </a:xfrm>
          <a:prstGeom prst="rect">
            <a:avLst/>
          </a:prstGeom>
          <a:ln w="0">
            <a:noFill/>
          </a:ln>
        </p:spPr>
      </p:pic>
      <p:pic>
        <p:nvPicPr>
          <p:cNvPr id="387" name="Straight Arrow Connector 11" descr=""/>
          <p:cNvPicPr/>
          <p:nvPr/>
        </p:nvPicPr>
        <p:blipFill>
          <a:blip r:embed="rId4"/>
          <a:stretch/>
        </p:blipFill>
        <p:spPr>
          <a:xfrm>
            <a:off x="3956040" y="3181320"/>
            <a:ext cx="315108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040" y="51264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Consolas"/>
              </a:rPr>
              <a:t>Using Strip Design</a:t>
            </a: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pic>
        <p:nvPicPr>
          <p:cNvPr id="389" name="Picture 9" descr="stripdesign.gif"/>
          <p:cNvPicPr/>
          <p:nvPr/>
        </p:nvPicPr>
        <p:blipFill>
          <a:blip r:embed="rId1"/>
          <a:stretch/>
        </p:blipFill>
        <p:spPr>
          <a:xfrm>
            <a:off x="1295280" y="380880"/>
            <a:ext cx="1368720" cy="16765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2" descr="stripdesignfinal.jpg"/>
          <p:cNvPicPr/>
          <p:nvPr/>
        </p:nvPicPr>
        <p:blipFill>
          <a:blip r:embed="rId2"/>
          <a:stretch/>
        </p:blipFill>
        <p:spPr>
          <a:xfrm>
            <a:off x="3962520" y="2133720"/>
            <a:ext cx="4806720" cy="3581280"/>
          </a:xfrm>
          <a:prstGeom prst="rect">
            <a:avLst/>
          </a:prstGeom>
          <a:ln w="0">
            <a:noFill/>
          </a:ln>
        </p:spPr>
      </p:pic>
      <p:sp>
        <p:nvSpPr>
          <p:cNvPr id="391" name="TextBox 14"/>
          <p:cNvSpPr/>
          <p:nvPr/>
        </p:nvSpPr>
        <p:spPr>
          <a:xfrm>
            <a:off x="762120" y="327672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reating diagram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low chart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quence chart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for illustrating/demonstrating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a process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Vocabulary illustration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with words/definitions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Geographical location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Retelling big ideas with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 illustrations documenting specific  characteristics using photos and label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  (properties of a mineral)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15:55:30Z</dcterms:created>
  <dc:creator>irwin-knight</dc:creator>
  <dc:description/>
  <dc:language>en-US</dc:language>
  <cp:lastModifiedBy>irwin-knight</cp:lastModifiedBy>
  <dcterms:modified xsi:type="dcterms:W3CDTF">2012-04-20T17:36:05Z</dcterms:modified>
  <cp:revision>10</cp:revision>
  <dc:subject/>
  <dc:title>Science and Social Studies using  eBook Magic</dc:title>
</cp:coreProperties>
</file>